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95A-43F6-46DB-8480-166E88A2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900-4A5B-4E1F-8EB3-1A2F2B1B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431-236E-4388-BDB9-710935D9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D0E-4974-4112-9F0D-FE1D5961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6C8-22CB-4A52-946C-08BC1DF0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49E-FFD2-41DB-8672-B31170B7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8A2-DE10-4729-B4B4-59854C46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E62-096A-42C2-BD28-BF80E24E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BB4-3680-47B1-B719-59BF458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1E5-B38C-44E1-9A87-48D0AE02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AA7-38C7-450D-B290-49007E4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B96-602E-465B-A95E-7F81D68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2F53-BA22-4293-A942-57DF065DA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057400" y="2286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219320" y="1676520"/>
            <a:ext cx="72388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Times New Roman"/>
              </a:rPr>
              <a:t>Radical Expression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676520" y="4572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each expres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990720" y="1447920"/>
          <a:ext cx="175248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17524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33520" y="3276720"/>
          <a:ext cx="3713040" cy="15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276720"/>
                    <a:ext cx="371304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1676520" y="4800600"/>
          <a:ext cx="1371600" cy="12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800600"/>
                    <a:ext cx="13716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9"/>
          <p:cNvGraphicFramePr/>
          <p:nvPr/>
        </p:nvGraphicFramePr>
        <p:xfrm>
          <a:off x="4379760" y="1523880"/>
          <a:ext cx="2316240" cy="13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79760" y="1523880"/>
                    <a:ext cx="231624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0"/>
          <p:cNvSpPr/>
          <p:nvPr/>
        </p:nvSpPr>
        <p:spPr>
          <a:xfrm>
            <a:off x="6705720" y="160020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alize the denom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4724280" y="3352680"/>
          <a:ext cx="1676520" cy="134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352680"/>
                    <a:ext cx="16765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724280" y="4724280"/>
          <a:ext cx="1289160" cy="137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4280" y="4724280"/>
                    <a:ext cx="1289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7" name="AutoShape 14"/>
          <p:cNvCxnSpPr/>
          <p:nvPr/>
        </p:nvCxnSpPr>
        <p:spPr>
          <a:xfrm flipV="1">
            <a:off x="3047760" y="2180880"/>
            <a:ext cx="1332360" cy="3248640"/>
          </a:xfrm>
          <a:prstGeom prst="curvedConnector5">
            <a:avLst>
              <a:gd name="adj1" fmla="val 49918"/>
              <a:gd name="adj2" fmla="val 49994"/>
              <a:gd name="adj3" fmla="val 499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15"/>
          <p:cNvSpPr/>
          <p:nvPr/>
        </p:nvSpPr>
        <p:spPr>
          <a:xfrm>
            <a:off x="6781680" y="5029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838080" y="762120"/>
          <a:ext cx="236232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23623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"/>
          <p:cNvGraphicFramePr/>
          <p:nvPr/>
        </p:nvGraphicFramePr>
        <p:xfrm>
          <a:off x="5791320" y="2286000"/>
          <a:ext cx="236196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286000"/>
                    <a:ext cx="23619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304920" y="2209680"/>
          <a:ext cx="3122640" cy="131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209680"/>
                    <a:ext cx="312264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4"/>
          <p:cNvGraphicFramePr/>
          <p:nvPr/>
        </p:nvGraphicFramePr>
        <p:xfrm>
          <a:off x="3637080" y="2133720"/>
          <a:ext cx="121428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7080" y="2133720"/>
                    <a:ext cx="1214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9"/>
          <p:cNvGraphicFramePr/>
          <p:nvPr/>
        </p:nvGraphicFramePr>
        <p:xfrm>
          <a:off x="1752480" y="3581280"/>
          <a:ext cx="7205760" cy="13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3581280"/>
                    <a:ext cx="72057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0"/>
          <p:cNvGraphicFramePr/>
          <p:nvPr/>
        </p:nvGraphicFramePr>
        <p:xfrm>
          <a:off x="1752480" y="5105520"/>
          <a:ext cx="1752840" cy="126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5105520"/>
                    <a:ext cx="175284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14400" y="525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implify a radical by adding or subtracting you must have like ter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90720" y="28954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erms are when the powers AND radicand are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993600" y="4591080"/>
          <a:ext cx="723276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4591080"/>
                    <a:ext cx="723276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609480" y="3049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s an example that we will do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609480" y="1981080"/>
          <a:ext cx="48513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4851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5"/>
          <p:cNvGraphicFramePr/>
          <p:nvPr/>
        </p:nvGraphicFramePr>
        <p:xfrm>
          <a:off x="533520" y="3048120"/>
          <a:ext cx="604512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48120"/>
                    <a:ext cx="60451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6"/>
          <p:cNvSpPr/>
          <p:nvPr/>
        </p:nvSpPr>
        <p:spPr>
          <a:xfrm>
            <a:off x="6781680" y="26668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write using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7"/>
          <p:cNvGraphicFramePr/>
          <p:nvPr/>
        </p:nvGraphicFramePr>
        <p:xfrm>
          <a:off x="533520" y="4114800"/>
          <a:ext cx="5003640" cy="6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114800"/>
                    <a:ext cx="50036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533520" y="4952880"/>
          <a:ext cx="407664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952880"/>
                    <a:ext cx="40766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"/>
          <p:cNvGraphicFramePr/>
          <p:nvPr/>
        </p:nvGraphicFramePr>
        <p:xfrm>
          <a:off x="533520" y="5791320"/>
          <a:ext cx="2743200" cy="65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791320"/>
                    <a:ext cx="274320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11"/>
          <p:cNvSpPr/>
          <p:nvPr/>
        </p:nvSpPr>
        <p:spPr>
          <a:xfrm>
            <a:off x="4800600" y="5791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3880" y="3049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e on your 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1752480" y="2286000"/>
          <a:ext cx="53848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53848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133720" y="4419720"/>
          <a:ext cx="402588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419720"/>
                    <a:ext cx="40258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6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7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5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195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6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8" name="Group 8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199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Text Box 9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10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11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38080" y="60948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simplifying a radical expression, find the factors that are to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powers of the radicand and then use the Product Property of Radic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62120" y="3886200"/>
          <a:ext cx="193176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86200"/>
                    <a:ext cx="19317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6"/>
          <p:cNvSpPr/>
          <p:nvPr/>
        </p:nvSpPr>
        <p:spPr>
          <a:xfrm>
            <a:off x="3276720" y="42670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What is the Product Property of Radicals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3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4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6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8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62120" y="2286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are a  mixed set of problems to 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2133720" y="1447920"/>
          <a:ext cx="472896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7289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143000" y="22860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to the mixed set of probl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3"/>
          <p:cNvGraphicFramePr/>
          <p:nvPr/>
        </p:nvGraphicFramePr>
        <p:xfrm>
          <a:off x="2523960" y="1752480"/>
          <a:ext cx="4486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960" y="1752480"/>
                    <a:ext cx="4486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95280" y="3808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 Property of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838080" y="1455840"/>
            <a:ext cx="8305920" cy="4413960"/>
            <a:chOff x="838080" y="1455840"/>
            <a:chExt cx="8305920" cy="4413960"/>
          </a:xfrm>
        </p:grpSpPr>
        <p:graphicFrame>
          <p:nvGraphicFramePr>
            <p:cNvPr id="49" name="Object 4"/>
            <p:cNvGraphicFramePr/>
            <p:nvPr/>
          </p:nvGraphicFramePr>
          <p:xfrm>
            <a:off x="5715000" y="2971800"/>
            <a:ext cx="269244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2971800"/>
                      <a:ext cx="269244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" name="Group 11"/>
            <p:cNvGrpSpPr/>
            <p:nvPr/>
          </p:nvGrpSpPr>
          <p:grpSpPr>
            <a:xfrm>
              <a:off x="838080" y="1455840"/>
              <a:ext cx="8305920" cy="4413960"/>
              <a:chOff x="838080" y="1455840"/>
              <a:chExt cx="8305920" cy="4413960"/>
            </a:xfrm>
          </p:grpSpPr>
          <p:sp>
            <p:nvSpPr>
              <p:cNvPr id="52" name="Text Box 3"/>
              <p:cNvSpPr/>
              <p:nvPr/>
            </p:nvSpPr>
            <p:spPr>
              <a:xfrm>
                <a:off x="1600200" y="1455840"/>
                <a:ext cx="6705720" cy="22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For any real numbers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b,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and any integer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&gt;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,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. If 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is even, then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6"/>
              <p:cNvSpPr/>
              <p:nvPr/>
            </p:nvSpPr>
            <p:spPr>
              <a:xfrm>
                <a:off x="838080" y="3589200"/>
                <a:ext cx="8305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When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b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are both nonnegative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Text Box 8"/>
              <p:cNvSpPr/>
              <p:nvPr/>
            </p:nvSpPr>
            <p:spPr>
              <a:xfrm>
                <a:off x="1600200" y="5105520"/>
                <a:ext cx="7238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2. If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 is odd, then 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5" name="Object 9"/>
            <p:cNvGraphicFramePr/>
            <p:nvPr/>
          </p:nvGraphicFramePr>
          <p:xfrm>
            <a:off x="5867280" y="5181480"/>
            <a:ext cx="2743200" cy="55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67280" y="5181480"/>
                      <a:ext cx="274320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09480" y="3049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do a few problem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762120" y="1523880"/>
          <a:ext cx="312408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312408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6"/>
          <p:cNvGraphicFramePr/>
          <p:nvPr/>
        </p:nvGraphicFramePr>
        <p:xfrm>
          <a:off x="1204920" y="2666880"/>
          <a:ext cx="429588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4920" y="2666880"/>
                    <a:ext cx="42958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7"/>
          <p:cNvSpPr/>
          <p:nvPr/>
        </p:nvSpPr>
        <p:spPr>
          <a:xfrm>
            <a:off x="6172200" y="25146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 into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8"/>
          <p:cNvGraphicFramePr/>
          <p:nvPr/>
        </p:nvGraphicFramePr>
        <p:xfrm>
          <a:off x="719280" y="3886200"/>
          <a:ext cx="541944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280" y="3886200"/>
                    <a:ext cx="54194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9"/>
          <p:cNvSpPr/>
          <p:nvPr/>
        </p:nvSpPr>
        <p:spPr>
          <a:xfrm>
            <a:off x="6553080" y="3657600"/>
            <a:ext cx="221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t Property of Rad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10"/>
          <p:cNvGraphicFramePr/>
          <p:nvPr/>
        </p:nvGraphicFramePr>
        <p:xfrm>
          <a:off x="1828800" y="5057640"/>
          <a:ext cx="2438280" cy="79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5057640"/>
                    <a:ext cx="243828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1006560" y="890640"/>
          <a:ext cx="492264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890640"/>
                    <a:ext cx="492264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3"/>
          <p:cNvGraphicFramePr/>
          <p:nvPr/>
        </p:nvGraphicFramePr>
        <p:xfrm>
          <a:off x="762120" y="2057400"/>
          <a:ext cx="380844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8084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6095880" y="19810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t Property of Rad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6"/>
          <p:cNvGraphicFramePr/>
          <p:nvPr/>
        </p:nvGraphicFramePr>
        <p:xfrm>
          <a:off x="762120" y="3276720"/>
          <a:ext cx="437832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276720"/>
                    <a:ext cx="43783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7"/>
          <p:cNvSpPr/>
          <p:nvPr/>
        </p:nvSpPr>
        <p:spPr>
          <a:xfrm>
            <a:off x="6172200" y="32004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 into cubes if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8"/>
          <p:cNvGraphicFramePr/>
          <p:nvPr/>
        </p:nvGraphicFramePr>
        <p:xfrm>
          <a:off x="762120" y="5486400"/>
          <a:ext cx="4101840" cy="5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486400"/>
                    <a:ext cx="41018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9"/>
          <p:cNvGraphicFramePr/>
          <p:nvPr/>
        </p:nvGraphicFramePr>
        <p:xfrm>
          <a:off x="762120" y="4343400"/>
          <a:ext cx="4952880" cy="85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4343400"/>
                    <a:ext cx="495288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0"/>
          <p:cNvSpPr/>
          <p:nvPr/>
        </p:nvSpPr>
        <p:spPr>
          <a:xfrm>
            <a:off x="5867280" y="426708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t Property of Rad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143000" y="5335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you try these 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2362320" y="1523880"/>
          <a:ext cx="3782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3880"/>
                    <a:ext cx="3782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057400" y="2286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2286000" y="1447920"/>
          <a:ext cx="433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47920"/>
                    <a:ext cx="433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19320" y="3808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ient Property of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1143000" y="1447920"/>
            <a:ext cx="7696080" cy="3143160"/>
            <a:chOff x="1143000" y="1447920"/>
            <a:chExt cx="7696080" cy="3143160"/>
          </a:xfrm>
        </p:grpSpPr>
        <p:graphicFrame>
          <p:nvGraphicFramePr>
            <p:cNvPr id="89" name="Object 4"/>
            <p:cNvGraphicFramePr/>
            <p:nvPr/>
          </p:nvGraphicFramePr>
          <p:xfrm>
            <a:off x="7467480" y="1600200"/>
            <a:ext cx="4572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480" y="160020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Text Box 5"/>
            <p:cNvSpPr/>
            <p:nvPr/>
          </p:nvSpPr>
          <p:spPr>
            <a:xfrm>
              <a:off x="7924680" y="1447920"/>
              <a:ext cx="60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0,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0"/>
            <p:cNvGrpSpPr/>
            <p:nvPr/>
          </p:nvGrpSpPr>
          <p:grpSpPr>
            <a:xfrm>
              <a:off x="1143000" y="1447920"/>
              <a:ext cx="7696080" cy="3143160"/>
              <a:chOff x="1143000" y="1447920"/>
              <a:chExt cx="7696080" cy="3143160"/>
            </a:xfrm>
          </p:grpSpPr>
          <p:sp>
            <p:nvSpPr>
              <p:cNvPr id="93" name="Text Box 3"/>
              <p:cNvSpPr/>
              <p:nvPr/>
            </p:nvSpPr>
            <p:spPr>
              <a:xfrm>
                <a:off x="1143000" y="1447920"/>
                <a:ext cx="7696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For real numbers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 and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1143000" y="2286000"/>
                <a:ext cx="5715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And any integer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n&gt;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1,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Object 7"/>
              <p:cNvGraphicFramePr/>
              <p:nvPr/>
            </p:nvGraphicFramePr>
            <p:xfrm>
              <a:off x="1219320" y="3352680"/>
              <a:ext cx="6476760" cy="1238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6" name="Object 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219320" y="3352680"/>
                        <a:ext cx="6476760" cy="123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97" name="Object 8"/>
          <p:cNvGraphicFramePr/>
          <p:nvPr/>
        </p:nvGraphicFramePr>
        <p:xfrm>
          <a:off x="1544760" y="4876920"/>
          <a:ext cx="3465360" cy="11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4760" y="4876920"/>
                    <a:ext cx="34653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9"/>
          <p:cNvSpPr/>
          <p:nvPr/>
        </p:nvSpPr>
        <p:spPr>
          <a:xfrm>
            <a:off x="685800" y="49528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62120" y="3049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neral, a radical expression is simplified wh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13"/>
          <p:cNvGrpSpPr/>
          <p:nvPr/>
        </p:nvGrpSpPr>
        <p:grpSpPr>
          <a:xfrm>
            <a:off x="990720" y="2209680"/>
            <a:ext cx="8153280" cy="779760"/>
            <a:chOff x="990720" y="2209680"/>
            <a:chExt cx="8153280" cy="779760"/>
          </a:xfrm>
        </p:grpSpPr>
        <p:graphicFrame>
          <p:nvGraphicFramePr>
            <p:cNvPr id="102" name="Object 4"/>
            <p:cNvGraphicFramePr/>
            <p:nvPr/>
          </p:nvGraphicFramePr>
          <p:xfrm>
            <a:off x="990720" y="2209680"/>
            <a:ext cx="42228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209680"/>
                      <a:ext cx="422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5"/>
            <p:cNvSpPr/>
            <p:nvPr/>
          </p:nvSpPr>
          <p:spPr>
            <a:xfrm>
              <a:off x="1600200" y="2286000"/>
              <a:ext cx="754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e radicand contains no fractions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990720" y="3200400"/>
            <a:ext cx="7772400" cy="1312920"/>
            <a:chOff x="990720" y="3200400"/>
            <a:chExt cx="7772400" cy="1312920"/>
          </a:xfrm>
        </p:grpSpPr>
        <p:graphicFrame>
          <p:nvGraphicFramePr>
            <p:cNvPr id="106" name="Object 6"/>
            <p:cNvGraphicFramePr/>
            <p:nvPr/>
          </p:nvGraphicFramePr>
          <p:xfrm>
            <a:off x="990720" y="3200400"/>
            <a:ext cx="42228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3200400"/>
                      <a:ext cx="422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Text Box 7"/>
            <p:cNvSpPr/>
            <p:nvPr/>
          </p:nvSpPr>
          <p:spPr>
            <a:xfrm>
              <a:off x="1676520" y="3200400"/>
              <a:ext cx="7086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No radicals appear in the denominator.(Rationalization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15"/>
          <p:cNvGrpSpPr/>
          <p:nvPr/>
        </p:nvGrpSpPr>
        <p:grpSpPr>
          <a:xfrm>
            <a:off x="990720" y="4648320"/>
            <a:ext cx="7619760" cy="1922400"/>
            <a:chOff x="990720" y="4648320"/>
            <a:chExt cx="7619760" cy="1922400"/>
          </a:xfrm>
        </p:grpSpPr>
        <p:graphicFrame>
          <p:nvGraphicFramePr>
            <p:cNvPr id="110" name="Object 8"/>
            <p:cNvGraphicFramePr/>
            <p:nvPr/>
          </p:nvGraphicFramePr>
          <p:xfrm>
            <a:off x="990720" y="4663800"/>
            <a:ext cx="42228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1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4663800"/>
                      <a:ext cx="422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Text Box 9"/>
            <p:cNvSpPr/>
            <p:nvPr/>
          </p:nvSpPr>
          <p:spPr>
            <a:xfrm>
              <a:off x="1676520" y="4648320"/>
              <a:ext cx="69339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e radicand contains no factors that are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th powers of an integer or polynomial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6:32:44Z</dcterms:created>
  <dc:creator>HCPS</dc:creator>
  <dc:description/>
  <dc:language>en-US</dc:language>
  <cp:lastModifiedBy>test</cp:lastModifiedBy>
  <dcterms:modified xsi:type="dcterms:W3CDTF">2014-11-06T14:14:41Z</dcterms:modified>
  <cp:revision>46</cp:revision>
  <dc:subject/>
  <dc:title>No Slide Title</dc:title>
</cp:coreProperties>
</file>